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1F6-7F48-42CD-85D0-09DB0A87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F1E-DA6C-44E0-9835-392B77FB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7CB-0829-4525-84A7-0B0033FE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AD1-2130-4C89-9260-DD450EBE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1CEB9-AC56-4981-AB7F-6C43694A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D03E7-7C3B-4D88-8D71-B9B6ECFF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C93A0-D8A1-495C-BECF-7723B71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5AEAB-F1EE-4BB8-B668-0D860204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2C2EE-8448-4718-83C8-555F6DF5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07C04-3214-420B-B9DF-09C240AB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B327A-40CA-43B0-A2BC-36EEA032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E8C-6A5D-4870-BE41-BDB10616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4EF5C-CB8B-4B0C-BFD4-E53AB06F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3EB67-C921-40C3-9228-B70E6691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8D1DC-BED1-4260-A1CB-537C96CB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29869-95DE-4B01-9679-5FEA5BD9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3860D-9B5D-4482-883C-C86E0CA4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AC6-135A-4A24-A8DD-E7F3D329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9DD-B5CD-4018-853C-70E36CBF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525-1A73-4A57-B3C9-B5A8B88C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336-6BB4-4759-B9C3-E123F82F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58F-0CE4-47B5-B0AC-003BF7F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29C-D0FD-4DF8-97B8-FFEDDFE1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992-94E8-41DF-8231-9433855C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4D92-8E19-4723-B555-139A78EDE97B}" type="slidenum">
              <a:rPr b="0" lang="ca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A0F9-8369-4BC9-A282-AFE9F0F552D7}" type="slidenum">
              <a:rPr b="0" lang="ca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 rot="784200">
            <a:off x="336600" y="1996560"/>
            <a:ext cx="840888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EM FET MERENGA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00"/>
                </a:solidFill>
                <a:latin typeface="Arial"/>
              </a:rPr>
              <a:t>Que es la merenga?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000"/>
                </a:solidFill>
                <a:latin typeface="Arial"/>
              </a:rPr>
              <a:t>Dols fet amb clares d’ou batudes i barrejades amb sucre fi, i cuit al fo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304920"/>
            <a:ext cx="7854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00"/>
                </a:solidFill>
                <a:latin typeface="Arial"/>
              </a:rPr>
              <a:t>Els ingredients que servim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3360" y="1773000"/>
            <a:ext cx="5216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- La clara del ou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- Suc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00"/>
                </a:solidFill>
                <a:latin typeface="Arial"/>
              </a:rPr>
              <a:t>Eines que hem fet servir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6840"/>
            <a:ext cx="4836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- Pl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- Forquilla o forquill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00"/>
                </a:solidFill>
                <a:latin typeface="Arial"/>
              </a:rPr>
              <a:t>Com fem la merenga?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000"/>
                </a:solidFill>
                <a:latin typeface="Arial"/>
              </a:rPr>
              <a:t>Posem en un plat les clares i el sucre i batem molt ràpid i molta estona fins que es posi consis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802560" cy="5121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476360" y="260280"/>
            <a:ext cx="65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Comic Sans MS"/>
              </a:rPr>
              <a:t>Tots hem fet merenga!!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8:21:58Z</dcterms:created>
  <dc:creator>argo</dc:creator>
  <dc:description/>
  <dc:language>en-US</dc:language>
  <cp:lastModifiedBy>argo</cp:lastModifiedBy>
  <dcterms:modified xsi:type="dcterms:W3CDTF">2009-06-12T07:17:13Z</dcterms:modified>
  <cp:revision>4</cp:revision>
  <dc:subject/>
  <dc:title>HEM FET MERENGA</dc:title>
</cp:coreProperties>
</file>